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12.jpeg" ContentType="image/jpeg"/>
  <Override PartName="/ppt/media/image17.png" ContentType="image/png"/>
  <Override PartName="/ppt/media/image16.jpeg" ContentType="image/jpeg"/>
  <Override PartName="/ppt/media/image15.png" ContentType="image/png"/>
  <Override PartName="/ppt/media/image1.jpeg" ContentType="image/jpeg"/>
  <Override PartName="/ppt/media/image9.jpeg" ContentType="image/jpeg"/>
  <Override PartName="/ppt/media/image4.jpeg" ContentType="image/jpeg"/>
  <Override PartName="/ppt/media/image2.png" ContentType="image/png"/>
  <Override PartName="/ppt/media/image3.png" ContentType="image/pn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move the slide</a:t>
            </a:r>
            <a:endParaRPr b="0" lang="en-US" sz="4200" spc="-1" strike="noStrike">
              <a:solidFill>
                <a:srgbClr val="99f166"/>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A811-3A8E-48AB-B01A-B3E17C9C1EC9}"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CC39-48E6-4264-A6ED-588BDD6FA125}"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EE53-CD2D-4B10-AA88-5A5641F9D82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77CB6-B3C6-41C1-8187-BA3BC144B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CF930-5474-484F-AD8A-3E937E611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ECAA7-58B4-4515-ACBC-5573C9A38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3B1B5-DCE1-4F46-9643-E169AEF74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004E6-BC5C-4DF6-9017-4CD810467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56D78-59C2-4B55-95E3-9784B4596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67558-09F7-46B1-8748-D62B92C24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8DC64-DBB3-4BB7-832C-E1F243F34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2251B-BE63-4CA7-ABA9-5F1851301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35BB8-1716-42E9-BE36-5361517E3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9C064-ACF2-4B5E-AAC4-2FF7C256F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C1257-482F-4769-A227-7F480CE66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08112-9346-43A9-B9E2-45E5A61CE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0A334-B2B4-4795-85E6-7A42BADF2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34708-8CAD-4C21-9380-E8E398B43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F3645-2693-49D0-9BE8-FD62C5474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83808-D455-440B-B335-4286A03B0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76A7DE-8128-4A83-9052-6A76EB889F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60F2DC-D16F-4FE9-B705-BEAB8A4D79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38C83-60B4-40D2-AA36-AF8289904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013136-4095-463B-9FF7-36186B756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3E1AF0-A8F9-41D1-858C-CB9539B3EC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287C7-09E6-4717-8CE9-8B15D3340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51A4B7-CF5E-4A77-92FA-636923882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90130-8ACF-4CA7-A4D9-73EB5F3A6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1EC3C8-88B5-4504-A92E-17C9695CD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4106C-0CA7-4BC7-A2FE-5F385BA73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CC2EA3-D3F2-4883-AD0E-BFB884130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169474-CFD2-4375-90D9-11E1055579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83506C-2DF7-48D8-918F-021256D81D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4EAA46-B34D-4DAE-ADD0-9B3C13D1FC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8BFD05-BA54-4FAF-BDCF-C59270C3F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1C77DC-C2E2-4C35-B4BE-6525CC7C60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C9D58-FBE9-4A49-8203-25F186A2D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925E9-E2F4-4D98-A199-7AA39E4CA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84B0F3-F26F-415B-BEB3-A04E6E3C5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7E055F-5112-44FB-96B8-722B1C488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A60761-9E80-4A33-BB84-4FF6C8E57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83FD8-313B-405F-91FE-E9D83E68D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DE317-5AA9-4643-ABB7-42D1000BEE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553C0D-6B65-454D-BC8D-8F6BF36D84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1C60C9-5033-4B64-978D-0248D24383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091D3F-27C0-4BF5-9C0D-C4CA15E4F4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044D76-F1B4-40C9-BB9F-C826AEC37D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2A98E-100D-4EB4-84F7-DABECBC22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B6E4E4-55B8-48A9-A2B5-DCD50BAC69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E4A57C-9D5B-4E5D-ABDA-8289D126C6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EFF418-EC7C-4206-B218-62C24DFD34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3ADBB3-3CF1-4E85-B20F-06B790704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E29B01-C1E3-4C84-B69B-9CC2E32C91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1E793-010C-4527-B8AE-1CB4FEEF0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5CCDBE-6C91-4CB0-95D0-4B3E11CB4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659C02-1DE5-43E4-94F1-D7F1546D0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947AB-0B8A-4413-A733-B1BBF52872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9F995A-B650-4E23-924F-713B224D20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40E9D-4C4E-4D73-9E03-362685568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8CF0A6-716E-4AE0-8E79-3D385DB601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9C5C2E-B994-4903-BBCB-67BAA16D70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4CC6C9-644E-4D0B-AFF4-F6DB34D0C6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11D1B-C5A0-4049-9142-09CA79BFB3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CD7A8C-10FF-468E-AEC3-026EE88805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589513-02AC-4ACB-A86D-6CFC2D4253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7FE7B9-E5CD-4101-99BD-B89BE6133E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BD906-2444-4503-835D-F8BD07683F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BC1B2-7393-4B36-93C2-1BD04A9D8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48EA21-C44C-4D53-8C3E-6081681CE2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4CCA0-ACC1-47A0-8891-C44B62A04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686301-E3D9-429D-9BBD-E6165E52BE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95E15F-628E-4A0A-899C-00196F1C98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84FD13-F74C-4C83-8674-457C0DAEBE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D976AB-5C52-464B-88EF-05BEB9E84E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855CF2-F3C1-4E28-8936-35733C1410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668625-6EC4-4059-805E-DE50A6D935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87ACD8-B5B4-4A8D-ADAC-96D06A23A1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6E6FA3-901F-4574-9B07-3644CA0898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893E9E-57C6-4225-AD1F-D9F771A6E1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12EE02-A179-40C8-A00B-F7D20E3BA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1AE58-50DF-4795-8DD4-874D323B8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781CF-12A4-4A4B-9885-574E83DD3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AE14C-C875-45CE-8599-49C121D2C1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501139-7400-48E7-8E58-71F74B3A6B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19B22B-A224-4190-BD3A-35748CB292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F66DC0-287D-4425-B9BA-C83902E62C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84B0-A446-4D7D-B0FB-C701342DF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5E97-07C7-4473-8687-5371908937E3}"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300D-9689-4226-9DAC-9534B40EB81F}" type="slidenum">
              <a:rPr b="0" lang="en-NZ"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A218-451A-42AD-BF96-CD9F238C18E0}"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C55B-352C-4600-8501-496CE7A3655C}" type="slidenum">
              <a:rPr b="0" lang="en-N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B483-5FFA-4BE6-B015-3F4797B88335}"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9866-7DF6-4854-B40D-9D3D8AB3AE07}" type="slidenum">
              <a:rPr b="0" lang="en-NZ"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DF1B-A2C3-4D90-B9A2-62E7ABF83950}" type="slidenum">
              <a:rPr b="0" lang="en-NZ"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molon.de/galleries/China/" TargetMode="External"/><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i.cnn.net/v5cache/TCM/Images/Dynamic/i65/la_sagrada_familia1-wallpaper_032020080210.jpg"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uwo.ca/modlang/images/Neuschwanstein%20Castle.png"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hyperlink" Target="http://www.medievality.com/images/castles/bodiam-castle.jpg" TargetMode="External"/><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loveandgrace.files.wordpress.com/2007/11/350px-st_basils_cathedral-500px.jpg"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chinese house.jpg"/>
          <p:cNvPicPr/>
          <p:nvPr/>
        </p:nvPicPr>
        <p:blipFill>
          <a:blip r:embed="rId1"/>
          <a:stretch/>
        </p:blipFill>
        <p:spPr>
          <a:xfrm>
            <a:off x="714240" y="571680"/>
            <a:ext cx="4378320" cy="5837040"/>
          </a:xfrm>
          <a:prstGeom prst="rect">
            <a:avLst/>
          </a:prstGeom>
          <a:ln w="0">
            <a:noFill/>
          </a:ln>
        </p:spPr>
      </p:pic>
      <p:pic>
        <p:nvPicPr>
          <p:cNvPr id="309" name="Rectangle 4" descr=""/>
          <p:cNvPicPr/>
          <p:nvPr/>
        </p:nvPicPr>
        <p:blipFill>
          <a:blip r:embed="rId2"/>
          <a:stretch/>
        </p:blipFill>
        <p:spPr>
          <a:xfrm>
            <a:off x="5065560" y="182520"/>
            <a:ext cx="3797280" cy="1932120"/>
          </a:xfrm>
          <a:prstGeom prst="rect">
            <a:avLst/>
          </a:prstGeom>
          <a:ln w="0">
            <a:noFill/>
          </a:ln>
        </p:spPr>
      </p:pic>
      <p:sp>
        <p:nvSpPr>
          <p:cNvPr id="310" name="TextBox 5"/>
          <p:cNvSpPr/>
          <p:nvPr/>
        </p:nvSpPr>
        <p:spPr>
          <a:xfrm>
            <a:off x="5286240" y="214308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molon.de/galleries/Ch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1" name="TextBox 5"/>
          <p:cNvSpPr/>
          <p:nvPr/>
        </p:nvSpPr>
        <p:spPr>
          <a:xfrm>
            <a:off x="5214960" y="2643120"/>
            <a:ext cx="357192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other important feature is its emphasis on articulation and bilateral symmetry, which signifies balance. Bilateral symmetry and the articulation of buildings are found everywhere in Chinese architecture, from palace complexes to humble farmhouses. When possible, plans for renovation and extension of a house will often try to maintain this symmetry provided that there is enough capital to do. Secondary elements are positioned either side of main structures as two wings to maintain overall bilateral symmet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contrast to the buildings, Chinese gardens are a notable exception which tends to be asymmetrical. The principle underlying the garden's composition is to create enduring flow.</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3" descr=""/>
          <p:cNvPicPr/>
          <p:nvPr/>
        </p:nvPicPr>
        <p:blipFill>
          <a:blip r:embed="rId1"/>
          <a:stretch/>
        </p:blipFill>
        <p:spPr>
          <a:xfrm>
            <a:off x="4821120" y="42840"/>
            <a:ext cx="4389480" cy="2651040"/>
          </a:xfrm>
          <a:prstGeom prst="rect">
            <a:avLst/>
          </a:prstGeom>
          <a:ln w="0">
            <a:noFill/>
          </a:ln>
        </p:spPr>
      </p:pic>
      <p:pic>
        <p:nvPicPr>
          <p:cNvPr id="313" name="Picture 4" descr="barcelona.jpg"/>
          <p:cNvPicPr/>
          <p:nvPr/>
        </p:nvPicPr>
        <p:blipFill>
          <a:blip r:embed="rId2"/>
          <a:stretch/>
        </p:blipFill>
        <p:spPr>
          <a:xfrm>
            <a:off x="500040" y="428760"/>
            <a:ext cx="4425840" cy="6000480"/>
          </a:xfrm>
          <a:prstGeom prst="rect">
            <a:avLst/>
          </a:prstGeom>
          <a:ln w="0">
            <a:noFill/>
          </a:ln>
        </p:spPr>
      </p:pic>
      <p:sp>
        <p:nvSpPr>
          <p:cNvPr id="314" name="TextBox 4"/>
          <p:cNvSpPr/>
          <p:nvPr/>
        </p:nvSpPr>
        <p:spPr>
          <a:xfrm>
            <a:off x="5429160" y="2000160"/>
            <a:ext cx="3286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i.cnn.net/v5cache/TCM/Images/Dynamic/i65/la_sagrada_familia1-wallpaper_032020080210.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5" name="TextBox 4"/>
          <p:cNvSpPr/>
          <p:nvPr/>
        </p:nvSpPr>
        <p:spPr>
          <a:xfrm>
            <a:off x="5214960" y="2746440"/>
            <a:ext cx="371484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year later, the modernist architect Antoni Gaudí took over as lead architect at the age of 31. From that moment on, Gaudí devoted most of his life to the construction of the church. Instead of sticking to the original plans, Gaudí changed the design drastically. The neo gothic style made way for Gaudí's trademark modernist style, which was based on forms found in nature. When he died in 1926 only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facade (the nativity facade), one tower, the apse and the crypt were finished. Because Gaudí was constantly improvising and changing the design while construction was going on, he left few designs and models. And most of these were destroyed during the civil war in 1936.</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3" descr="GermanCastle.png"/>
          <p:cNvPicPr/>
          <p:nvPr/>
        </p:nvPicPr>
        <p:blipFill>
          <a:blip r:embed="rId1"/>
          <a:stretch/>
        </p:blipFill>
        <p:spPr>
          <a:xfrm>
            <a:off x="571680" y="2000160"/>
            <a:ext cx="3984480" cy="4476960"/>
          </a:xfrm>
          <a:prstGeom prst="rect">
            <a:avLst/>
          </a:prstGeom>
          <a:ln w="0">
            <a:noFill/>
          </a:ln>
        </p:spPr>
      </p:pic>
      <p:pic>
        <p:nvPicPr>
          <p:cNvPr id="317" name="Rectangle 4" descr=""/>
          <p:cNvPicPr/>
          <p:nvPr/>
        </p:nvPicPr>
        <p:blipFill>
          <a:blip r:embed="rId2"/>
          <a:stretch/>
        </p:blipFill>
        <p:spPr>
          <a:xfrm>
            <a:off x="1274760" y="182520"/>
            <a:ext cx="6858000" cy="1932120"/>
          </a:xfrm>
          <a:prstGeom prst="rect">
            <a:avLst/>
          </a:prstGeom>
          <a:ln w="0">
            <a:noFill/>
          </a:ln>
        </p:spPr>
      </p:pic>
      <p:sp>
        <p:nvSpPr>
          <p:cNvPr id="318" name="TextBox 3"/>
          <p:cNvSpPr/>
          <p:nvPr/>
        </p:nvSpPr>
        <p:spPr>
          <a:xfrm>
            <a:off x="5286240" y="1928880"/>
            <a:ext cx="3357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uwo.ca/modlang/images/Neuschwanstein%20Castle.p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9" name="Rectangle 6"/>
          <p:cNvSpPr/>
          <p:nvPr/>
        </p:nvSpPr>
        <p:spPr>
          <a:xfrm>
            <a:off x="4572000" y="2500200"/>
            <a:ext cx="4286160" cy="3290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truction on the castle began in 1869, but given the exact tastes of King Ludwig II,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gress was very slow going. As an example, it took 14 carpenters four and a half years just to complete the woodwork in Ludwig's bedroom.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King was an immense devotee of Richard Wagner, even going as far as naming the castle after a character in one of Wagner's operas--the Swan Knight.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none of the other castles in Germany will you find more instances of Ludwig's fondness for Wagner's work.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pestries depicting scenes from Wagner's opera can be found insid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1" descr="castle english or turkey.jpg"/>
          <p:cNvPicPr/>
          <p:nvPr/>
        </p:nvPicPr>
        <p:blipFill>
          <a:blip r:embed="rId1"/>
          <a:stretch/>
        </p:blipFill>
        <p:spPr>
          <a:xfrm>
            <a:off x="4214880" y="214200"/>
            <a:ext cx="4714920" cy="3129120"/>
          </a:xfrm>
          <a:prstGeom prst="rect">
            <a:avLst/>
          </a:prstGeom>
          <a:ln w="0">
            <a:noFill/>
          </a:ln>
        </p:spPr>
      </p:pic>
      <p:pic>
        <p:nvPicPr>
          <p:cNvPr id="321" name="Rectangle 3" descr=""/>
          <p:cNvPicPr/>
          <p:nvPr/>
        </p:nvPicPr>
        <p:blipFill>
          <a:blip r:embed="rId2"/>
          <a:stretch/>
        </p:blipFill>
        <p:spPr>
          <a:xfrm>
            <a:off x="208080" y="19080"/>
            <a:ext cx="4211640" cy="3619440"/>
          </a:xfrm>
          <a:prstGeom prst="rect">
            <a:avLst/>
          </a:prstGeom>
          <a:ln w="0">
            <a:noFill/>
          </a:ln>
        </p:spPr>
      </p:pic>
      <p:sp>
        <p:nvSpPr>
          <p:cNvPr id="322" name="TextBox 4"/>
          <p:cNvSpPr/>
          <p:nvPr/>
        </p:nvSpPr>
        <p:spPr>
          <a:xfrm>
            <a:off x="357120" y="271476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medievality.com/images/castles/bodiam-castle.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3" name="TextBox 4"/>
          <p:cNvSpPr/>
          <p:nvPr/>
        </p:nvSpPr>
        <p:spPr>
          <a:xfrm>
            <a:off x="214200" y="3429000"/>
            <a:ext cx="87156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Castle is in East Sussex, England.</a:t>
            </a:r>
            <a:endParaRPr b="0" lang="en-US" sz="1400" spc="-1" strike="noStrike">
              <a:solidFill>
                <a:srgbClr val="ffffff"/>
              </a:solidFill>
              <a:latin typeface="Arial"/>
            </a:endParaRPr>
          </a:p>
          <a:p>
            <a:pPr>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castle was completed in 1388 and was one of the last medieval castles to be built. </a:t>
            </a:r>
            <a:endParaRPr b="0" lang="en-US" sz="1400" spc="-1" strike="noStrike">
              <a:solidFill>
                <a:srgbClr val="ffffff"/>
              </a:solidFill>
              <a:latin typeface="Arial"/>
            </a:endParaRPr>
          </a:p>
          <a:p>
            <a:pPr>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was built for war, though it was lived in for 250 years without attack, It was however captured twice without resistance. </a:t>
            </a:r>
            <a:endParaRPr b="0" lang="en-US" sz="1400" spc="-1" strike="noStrike">
              <a:solidFill>
                <a:srgbClr val="ffffff"/>
              </a:solidFill>
              <a:latin typeface="Arial"/>
            </a:endParaRPr>
          </a:p>
          <a:p>
            <a:pPr>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was originally the fortress and residence of Sir Edward Dalyngrigge who was a Sussex Knight.</a:t>
            </a:r>
            <a:endParaRPr b="0" lang="en-US" sz="1400" spc="-1" strike="noStrike">
              <a:solidFill>
                <a:srgbClr val="ffffff"/>
              </a:solidFill>
              <a:latin typeface="Arial"/>
            </a:endParaRPr>
          </a:p>
          <a:p>
            <a:pPr>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odiam is a true fairy tale castle and although still looking formidable from the outside, the inside is another story.</a:t>
            </a:r>
            <a:endParaRPr b="0" lang="en-US" sz="1400" spc="-1" strike="noStrike">
              <a:solidFill>
                <a:srgbClr val="ffffff"/>
              </a:solidFill>
              <a:latin typeface="Arial"/>
            </a:endParaRPr>
          </a:p>
          <a:p>
            <a:pPr>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mewhere between 1640-48 during the Civil War, the inside of the castle was demolished.</a:t>
            </a:r>
            <a:endParaRPr b="0" lang="en-US" sz="1400" spc="-1" strike="noStrike">
              <a:solidFill>
                <a:srgbClr val="ffffff"/>
              </a:solidFill>
              <a:latin typeface="Arial"/>
            </a:endParaRPr>
          </a:p>
          <a:p>
            <a:pPr>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 a weird way this makes the castle more beautiful, on the outside still a tough shell of defense, and yet inside, an empty ruin whose inner walls have crumbled.</a:t>
            </a:r>
            <a:endParaRPr b="0" lang="en-US" sz="1400" spc="-1" strike="noStrike">
              <a:solidFill>
                <a:srgbClr val="ffffff"/>
              </a:solidFill>
              <a:latin typeface="Arial"/>
            </a:endParaRPr>
          </a:p>
          <a:p>
            <a:pPr>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t's an amazing contrast to se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1" descr="Japanese palace.jpg"/>
          <p:cNvPicPr/>
          <p:nvPr/>
        </p:nvPicPr>
        <p:blipFill>
          <a:blip r:embed="rId1"/>
          <a:stretch/>
        </p:blipFill>
        <p:spPr>
          <a:xfrm>
            <a:off x="554040" y="357120"/>
            <a:ext cx="4660920" cy="3495600"/>
          </a:xfrm>
          <a:prstGeom prst="rect">
            <a:avLst/>
          </a:prstGeom>
          <a:ln w="0">
            <a:noFill/>
          </a:ln>
        </p:spPr>
      </p:pic>
      <p:pic>
        <p:nvPicPr>
          <p:cNvPr id="325" name="Rectangle 2" descr=""/>
          <p:cNvPicPr/>
          <p:nvPr/>
        </p:nvPicPr>
        <p:blipFill>
          <a:blip r:embed="rId2"/>
          <a:stretch/>
        </p:blipFill>
        <p:spPr>
          <a:xfrm>
            <a:off x="4816440" y="249120"/>
            <a:ext cx="4254480" cy="1957680"/>
          </a:xfrm>
          <a:prstGeom prst="rect">
            <a:avLst/>
          </a:prstGeom>
          <a:ln w="0">
            <a:noFill/>
          </a:ln>
        </p:spPr>
      </p:pic>
      <p:sp>
        <p:nvSpPr>
          <p:cNvPr id="326" name="TextBox 3"/>
          <p:cNvSpPr/>
          <p:nvPr/>
        </p:nvSpPr>
        <p:spPr>
          <a:xfrm>
            <a:off x="5357880" y="2071800"/>
            <a:ext cx="342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loveandgrace.files.wordpress.com/2007/11/350px-st_basils_cathedral-500px.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7" name="TextBox 4"/>
          <p:cNvSpPr/>
          <p:nvPr/>
        </p:nvSpPr>
        <p:spPr>
          <a:xfrm>
            <a:off x="500040" y="3929040"/>
            <a:ext cx="8001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erial Palace, Tokyo </a:t>
            </a:r>
            <a:r>
              <a:rPr b="0" lang="en-US" sz="1400" spc="-1" strike="noStrike">
                <a:solidFill>
                  <a:srgbClr val="ffffff"/>
                </a:solidFill>
                <a:latin typeface="Arial"/>
              </a:rPr>
              <a:t>is indeed one of the most alluring historic sites in Japan and is the residence of one of the Emperor of Japan. It is standing within the Chiyoda ward. Sometimes around 1868 it became the imperial place for dwelling. </a:t>
            </a:r>
            <a:br>
              <a:rPr sz="1400"/>
            </a:br>
            <a:r>
              <a:rPr b="0" lang="en-US" sz="1400" spc="-1" strike="noStrike">
                <a:solidFill>
                  <a:srgbClr val="ffffff"/>
                </a:solidFill>
                <a:latin typeface="Arial"/>
              </a:rPr>
              <a:t>All around this castle there is a high wall and a moat. The world-known Palace of Tokyo is standing within the Chiyoda ward and is quite near to the Tokyo Station. In the year 1868, the Imperial Palace, Tokyo became the official imperial place for dwelling. </a:t>
            </a:r>
            <a:br>
              <a:rPr sz="1400"/>
            </a:br>
            <a:r>
              <a:rPr b="0" lang="en-US" sz="1400" spc="-1" strike="noStrike">
                <a:solidFill>
                  <a:srgbClr val="ffffff"/>
                </a:solidFill>
                <a:latin typeface="Arial"/>
              </a:rPr>
              <a:t>It is seen that the Imperial Palace, Tokyo – Japan underwent several reconstruction. In the year 1945, the most part of it was demolished when the raids took place. It is suggested to stand near the Nijubashi Bridge to get the majestic view of the palace. Usually on 23rd December (the birthday of the emperor) and 1st January this spectacular palace remains open. The Imperial Palace East Gardens are also in close proximity.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 descr="moscow building.jpg"/>
          <p:cNvPicPr/>
          <p:nvPr/>
        </p:nvPicPr>
        <p:blipFill>
          <a:blip r:embed="rId1"/>
          <a:stretch/>
        </p:blipFill>
        <p:spPr>
          <a:xfrm>
            <a:off x="357120" y="457200"/>
            <a:ext cx="4660920" cy="5872320"/>
          </a:xfrm>
          <a:prstGeom prst="rect">
            <a:avLst/>
          </a:prstGeom>
          <a:ln w="0">
            <a:noFill/>
          </a:ln>
        </p:spPr>
      </p:pic>
      <p:pic>
        <p:nvPicPr>
          <p:cNvPr id="329" name="Rectangle 2" descr=""/>
          <p:cNvPicPr/>
          <p:nvPr/>
        </p:nvPicPr>
        <p:blipFill>
          <a:blip r:embed="rId2"/>
          <a:stretch/>
        </p:blipFill>
        <p:spPr>
          <a:xfrm>
            <a:off x="4962600" y="122400"/>
            <a:ext cx="4217760" cy="1614240"/>
          </a:xfrm>
          <a:prstGeom prst="rect">
            <a:avLst/>
          </a:prstGeom>
          <a:ln w="0">
            <a:noFill/>
          </a:ln>
        </p:spPr>
      </p:pic>
      <p:sp>
        <p:nvSpPr>
          <p:cNvPr id="330" name="TextBox 3"/>
          <p:cNvSpPr/>
          <p:nvPr/>
        </p:nvSpPr>
        <p:spPr>
          <a:xfrm>
            <a:off x="5143680" y="1571760"/>
            <a:ext cx="3714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http://loveandgrace.files.wordpress.com/2007/11/350px-st_basils_cathedral-500px.jp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4"/>
          <p:cNvSpPr/>
          <p:nvPr/>
        </p:nvSpPr>
        <p:spPr>
          <a:xfrm>
            <a:off x="5143680" y="2071800"/>
            <a:ext cx="3571560" cy="4839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t of stone and brick covered with stucco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ght colorful onion domed chapels surrounding a central tent-roofed structure.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octagonal tower has recessive interspaced tiers of ornate kokoshniki.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ight chapels symbolize the eight assaults on Kazan,</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dicated to religious festivals and saints on whose feast days the Russian army achieved major victories in the Kazan campaign.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ground plan is in the form of an eight-pointed star.</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omes were given their present form at the end of the 16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iginally the domes were helmet-shaped, and were set around a central tower which was destroyed at the end of the 18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ful painting of the domes dates from the 17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ll tower was added and the open galleries around the whole complex were strengthened room ov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Arial"/>
              </a:rPr>
              <a:t>http://www.geocities.com/athens/delphi/6422/Page2.htm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 descr="greek villa.jpg"/>
          <p:cNvPicPr/>
          <p:nvPr/>
        </p:nvPicPr>
        <p:blipFill>
          <a:blip r:embed="rId1"/>
          <a:stretch/>
        </p:blipFill>
        <p:spPr>
          <a:xfrm>
            <a:off x="357120" y="243000"/>
            <a:ext cx="5052960" cy="3371760"/>
          </a:xfrm>
          <a:prstGeom prst="rect">
            <a:avLst/>
          </a:prstGeom>
          <a:ln w="0">
            <a:noFill/>
          </a:ln>
        </p:spPr>
      </p:pic>
      <p:pic>
        <p:nvPicPr>
          <p:cNvPr id="333" name="Rectangle 2" descr=""/>
          <p:cNvPicPr/>
          <p:nvPr/>
        </p:nvPicPr>
        <p:blipFill>
          <a:blip r:embed="rId2"/>
          <a:stretch/>
        </p:blipFill>
        <p:spPr>
          <a:xfrm>
            <a:off x="4968720" y="237960"/>
            <a:ext cx="4407120" cy="2670480"/>
          </a:xfrm>
          <a:prstGeom prst="rect">
            <a:avLst/>
          </a:prstGeom>
          <a:ln w="0">
            <a:noFill/>
          </a:ln>
        </p:spPr>
      </p:pic>
      <p:sp>
        <p:nvSpPr>
          <p:cNvPr id="334" name="TextBox 4"/>
          <p:cNvSpPr/>
          <p:nvPr/>
        </p:nvSpPr>
        <p:spPr>
          <a:xfrm>
            <a:off x="5678640" y="2220840"/>
            <a:ext cx="285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http://www.cap.nsw.edu.au/bb_site_intro/specialPlaces/special_places_st2/africa/pyramid3.jp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TextBox 4"/>
          <p:cNvSpPr/>
          <p:nvPr/>
        </p:nvSpPr>
        <p:spPr>
          <a:xfrm>
            <a:off x="357120" y="3857760"/>
            <a:ext cx="8358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TextBox 5"/>
          <p:cNvSpPr/>
          <p:nvPr/>
        </p:nvSpPr>
        <p:spPr>
          <a:xfrm>
            <a:off x="428760" y="3786120"/>
            <a:ext cx="82864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he Egyptians managed the complex organisation of labour and the physical movement of large stone blocks is still a matter for debate.  Pyramid construction may have involved ramps being erected around the pyramid. Blocks of stone would have been pulled up on sledges and the ramps dismantled later. It is believed that most of the labour for the construction of the pyramids would have come from farmers who were available during the inundation season when the Nile River flooded and farmland was underwater. It would also have been an ideal time for the transportation by boat of large stone blocks from their quarries to the pyramid sit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 descr="ireland-castle.jpg"/>
          <p:cNvPicPr/>
          <p:nvPr/>
        </p:nvPicPr>
        <p:blipFill>
          <a:blip r:embed="rId1"/>
          <a:stretch/>
        </p:blipFill>
        <p:spPr>
          <a:xfrm>
            <a:off x="214200" y="285840"/>
            <a:ext cx="5167440" cy="3429000"/>
          </a:xfrm>
          <a:prstGeom prst="rect">
            <a:avLst/>
          </a:prstGeom>
          <a:ln w="0">
            <a:noFill/>
          </a:ln>
        </p:spPr>
      </p:pic>
      <p:pic>
        <p:nvPicPr>
          <p:cNvPr id="338" name="Rectangle 2" descr=""/>
          <p:cNvPicPr/>
          <p:nvPr/>
        </p:nvPicPr>
        <p:blipFill>
          <a:blip r:embed="rId2"/>
          <a:stretch/>
        </p:blipFill>
        <p:spPr>
          <a:xfrm>
            <a:off x="5121360" y="182520"/>
            <a:ext cx="4071960" cy="1932120"/>
          </a:xfrm>
          <a:prstGeom prst="rect">
            <a:avLst/>
          </a:prstGeom>
          <a:ln w="0">
            <a:noFill/>
          </a:ln>
        </p:spPr>
      </p:pic>
      <p:sp>
        <p:nvSpPr>
          <p:cNvPr id="339" name="TextBox 3"/>
          <p:cNvSpPr/>
          <p:nvPr/>
        </p:nvSpPr>
        <p:spPr>
          <a:xfrm>
            <a:off x="5786280" y="2214720"/>
            <a:ext cx="264348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Arial"/>
              </a:rPr>
              <a:t>http://grouptraveldiscounts.com/wp-content/uploads/2007/09/ireland-castle.jpg</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340" name="TextBox 4"/>
          <p:cNvSpPr/>
          <p:nvPr/>
        </p:nvSpPr>
        <p:spPr>
          <a:xfrm>
            <a:off x="285840" y="3857760"/>
            <a:ext cx="8286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omoland Castle is a castle, now a luxury hotel with golf course, located near Newmarket-on-Fergus, County Clare, Irel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esent building was completed in 1835. However the first building constructed here seems to have been a 15th or early 16th century tower house and is recorded as being erected by Thomas, the son of Shane Mac Anerheny. There were at least three houses on the site, at various times, called Dromoland. While Dromoland later became residence of eight generations of the O'Brien family, early records suggest that the area was also occupied by other local Gaelic families such as the McInerney family during the 16th century. According to the historian James Frost, Dromoland translates as the "Hill of Litig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21:58:15Z</dcterms:created>
  <dc:creator>Diocesan School for Girls</dc:creator>
  <dc:description/>
  <dc:language>en-US</dc:language>
  <cp:lastModifiedBy>Diocesan School for Girls</cp:lastModifiedBy>
  <dcterms:modified xsi:type="dcterms:W3CDTF">2009-08-15T06:00:58Z</dcterms:modified>
  <cp:revision>36</cp:revision>
  <dc:subject/>
  <dc:title>Slide 1</dc:title>
</cp:coreProperties>
</file>